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7.jpeg" ContentType="image/jpeg"/>
  <Override PartName="/ppt/media/image6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7019-5EB7-4648-B66B-335098258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CF52-282D-47A0-B1F0-CDC24967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F4A2-7563-4D89-8AE5-0B652F75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9288-A07E-49A1-9515-D039B6AAB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7AA3-96A2-4D8D-9B10-A44C6698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06FA-61FB-43AB-A814-272520C8D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B93E-2238-4C94-B631-7E2561494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0C78-A347-4731-B4A8-237BA541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6912-2E91-4376-9410-55542767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516-16B0-4613-A4E3-54142D50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00CD-AF1A-449E-BC7F-1E4B835F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195B-006A-42E4-94D0-026F11C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A882-2346-406A-9C17-37CD8C7B1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5219640" y="5950080"/>
            <a:ext cx="34164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>
            <a:lum bright="26000"/>
          </a:blip>
          <a:stretch/>
        </p:blipFill>
        <p:spPr>
          <a:xfrm>
            <a:off x="-73080" y="-171360"/>
            <a:ext cx="9217080" cy="75214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STUDI DELS HÀBITS ALIMENTARIS DELS ADOLESCENTS DEL PLA DE L’ESTA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444720" y="595152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800" spc="-1" strike="noStrike">
                <a:solidFill>
                  <a:srgbClr val="000000"/>
                </a:solidFill>
                <a:latin typeface="Times New Roman"/>
              </a:rPr>
              <a:t>Anna Oliv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LS NO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090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ÍNDEX DE MASSA CORPORAL DE LES NO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8064360" cy="35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ETA DELS NOIS I NOIES DE [12,18) ANY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125360"/>
            <a:ext cx="1155960" cy="15116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403280" y="1268280"/>
          <a:ext cx="7524720" cy="5400720"/>
        </p:xfrm>
        <a:graphic>
          <a:graphicData uri="http://schemas.openxmlformats.org/drawingml/2006/table">
            <a:tbl>
              <a:tblPr/>
              <a:tblGrid>
                <a:gridCol w="7524720"/>
              </a:tblGrid>
              <a:tr h="540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Àpat més important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loc on esmorzen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 casa i a l’escola. Menys les noies de [16,18) anys que només ho fan a l’escola.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morz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 i llet o derivats, de tant en tant beuen un su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arròs, pasta o patates; carn, peix o ous i per beure beuen aigua, els nois i noies de [16,18) anys beuen  un refresc de tant en tan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ren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ereals, galetes o pa i beuen un suc. Els nois i noies de [16,18) anys mengen brioixeria ocasionalmen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par: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carn, peix o ous; arròs, pasta o patates com a complement i beuen aigu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stan disposats a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ugmentar el consum de fruites i verdures, disminuir la brioixeria i la carn i els majors de setze anys també estan disposats a reduir l’alcoho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"/>
                        <a:tabLst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396252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</a:t>
                      </a:r>
                      <a:r>
                        <a:rPr b="1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xercici físic: </a:t>
                      </a:r>
                      <a:r>
                        <a:rPr b="0" lang="ca-E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ls nois i noies de 12 a 16 anys en fan entre tres i quatre cops a la setmana. Els nois de [16,18) entre 5 i 6 cops i les noies de [16,18) anys com a màxim dues vegades a la setmana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113688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250920" y="3933720"/>
            <a:ext cx="960480" cy="13683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179280" y="5229360"/>
            <a:ext cx="120348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NS I MALS HÀBI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9640" y="1989000"/>
          <a:ext cx="8229600" cy="40546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LS HÀBI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4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 Gairebé tots fan els 5 àpa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oritzen el dinar com a àpat més important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ngen aliments que els aportin energia, vitamines i calci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mengen fregit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n espor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n disposats a millorar la seva. alimentació per a tenir una bona dieta. 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s noies de [16,18) anys no esmorzen a cas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’hauria de menjar més fruita, verdura i hortaliss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 s’han de menjar tants dolço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Times New Roman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ca-E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n de beure més líquids, preferiblement aigua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67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àcies a tots per la vostra atenci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ÍNDE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sos per a l’elaboració de l’estudi estadístic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és una bona diet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índex de massa corpor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’enque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Fitxa tècn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lusions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ls no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Índex de massa corporal de les no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eta dels nois i noies de [12,18) an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Bons i mals hàb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ASSOS PER A L'ELABORACIÓ DE L’ESTUDI ESTADÍST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È ÉS UNA BONA DIETA?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9968" t="6526" r="13706" b="0"/>
          <a:stretch/>
        </p:blipFill>
        <p:spPr>
          <a:xfrm>
            <a:off x="1332000" y="1268280"/>
            <a:ext cx="675792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’ÍNDEX DE MASSA COR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calcul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’interpreta: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92360" y="1557360"/>
            <a:ext cx="3024360" cy="1224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es (K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MC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lçada</a:t>
            </a:r>
            <a:r>
              <a:rPr b="0" lang="en-GB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00720" y="213372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92360" y="3573360"/>
            <a:ext cx="4608720" cy="2808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inferior a 18,5 = baix p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18,5 i 25 =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entre 25 i 30 = sobrepè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C superior a 30 = obesitat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’ENQUES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l’enquesta es pregunt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Edat, sexe, pes i alç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Què s’ha menjat en el marge de les últimes 24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Les vegades que es fa esport setmanal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A què s’estaria disposat a fer per millorar la die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majoria de les preguntes són tancades, amb diverses opcions a escolli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TXA TÈCN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v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 i noies de dotze a divuit anys dels instituts de secundària del Pla de l’Estany, en total 1761 alum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58920" y="2708280"/>
            <a:ext cx="669780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Mostra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: 200 enquesta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ipus de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stratificada per sexe, curs i centre esco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Repartició de la mostr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6 enquestats a l’INS Josep Brugulat, 66 enquestats a l’INS Pla de l’Estany, 57 enquestats a l’INS Pere Alsius i 11 enquestats a Casa Nostr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ècnica de recollida de la inform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entrevista pers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Participació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Error mostral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6,7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Nivell de confiança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95,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400" spc="-1" strike="noStrike">
                <a:solidFill>
                  <a:srgbClr val="000000"/>
                </a:solidFill>
                <a:latin typeface="Times New Roman"/>
              </a:rPr>
              <a:t>Treball de camp: </a:t>
            </a:r>
            <a:r>
              <a:rPr b="0" lang="ca-ES" sz="2400" spc="-1" strike="noStrike">
                <a:solidFill>
                  <a:srgbClr val="000000"/>
                </a:solidFill>
                <a:latin typeface="Times New Roman"/>
              </a:rPr>
              <a:t>d’abril a juny del 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4:36:51Z</dcterms:created>
  <dc:creator>User</dc:creator>
  <dc:description/>
  <dc:language>en-US</dc:language>
  <cp:lastModifiedBy>User</cp:lastModifiedBy>
  <dcterms:modified xsi:type="dcterms:W3CDTF">2010-10-21T17:26:22Z</dcterms:modified>
  <cp:revision>6</cp:revision>
  <dc:subject/>
  <dc:title>ESTUDI DELS HÀBITS ALIMENTARIS DELS ADOLESCENTS DEL PLA DE L’ESTANY</dc:title>
</cp:coreProperties>
</file>